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D56A-6542-43CB-8039-F31F7D27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9AF-F83B-492C-BB52-AFB37CE8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AAD52-39A7-4208-86CB-F45FF93A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2D1D2-2E85-4298-A0B7-0A95D05A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37D6B-6CD8-442E-B0AE-5672DD0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97A23-2E1C-4110-B2A7-6C26F3D9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0D787-8949-4E5D-9EC2-CAE96D1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E481A-18C4-4282-8461-2E36BC75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72D45-EA86-4DCA-86CC-9B8C3638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8A2E9-B262-4C7A-98CE-0C1E5A3C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03B01-36A3-477C-A1BE-47F72804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0D815-1714-48BD-860A-F5AA36C8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6C1-1D41-444B-A044-8D45F9BE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73F96-9E27-483C-8CEF-93829F30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31AAC-28DB-4244-977A-7E9DFDE9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C37EE-88F3-41DD-A146-E3597AC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4935E-D251-443D-9C6E-87B15CD6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0433A-8E75-44B5-A6FB-3342577C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6F10D-394D-452C-BD53-85A0E78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271CF-1F94-429F-BF32-F2BA65C5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7A576-DD71-434B-B5D0-C07D2CA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B0184-839A-4AA6-B2EA-436F5078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05FEC-10A7-487C-8304-2B4BA287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316-0FFB-4D1D-BC31-32A128B9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E5E15-4420-4E1A-BAD7-2D8D98FA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C4A1B-E723-4E6D-B2F2-14BE7F25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076B0-B9AA-47AC-809F-8B60605B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C8E13-AFC0-47DB-ABF0-D5963F6E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51737-CFD2-4E34-9196-6217C89D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9DE1E-CB6B-42CD-91A7-2CED1DB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D8388-4670-4F5A-8D07-D438B3C5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E7131-246D-4968-BFBA-F625FB0C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CB223-2874-4246-8D15-D6DC1947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B517E-B28D-4A17-A8B2-D8AB715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163C-EC4C-428A-B08B-1DF4AA4C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43DE0-EAEB-4B73-B56E-C6F51DEB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5FBEE-7777-4502-A735-33C80F96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FD4F0-CDF0-4A4E-B223-405EA73F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3E1BE-6DE6-4C9F-AF61-7B3B7B12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019F2-3C58-4886-805B-D45E54F4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2B50E-64BD-4FFF-A572-CECB4957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26CCC-C95C-4E6A-AFCA-E069C5C5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14D2B-B7E7-42E6-8F81-9D3154AD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41C9B-3149-4267-81F9-C461F9E8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30A7E-880F-43D4-97B0-D75B55E2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7CA1-E9EC-4BBA-BE07-41AF41AF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36F62-A5B5-4D2C-81BB-66679F55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CB6C2-679C-4C69-84D8-847B079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F9F14-1703-4A88-AC5D-E32E4DBC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5B3C9-F650-46C8-AB2B-A2D5F49C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3C2A4-F174-4795-9D0E-B10CD09E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6DA0-BD11-4570-B451-02590543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B973-402B-42F5-9296-36CBE56C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78E7-D047-4AF7-B24F-5C88E2D8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D37B-5FAB-4481-9423-3A68314D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B399-62C8-44B7-9DB2-2C818A81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F59-0152-4729-9ED1-064142E6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01C3-ABC8-4191-99ED-EF0D6E91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D3B6-9897-4C04-A411-A2BFB47E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4BF2-4149-4A6B-B367-49D4DB1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C7EF-0035-4530-9B46-66187262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C106-75F5-4C99-84DA-7B7DA736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0169-F35E-44EC-AA6D-EC6B2BFC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2CAB-1FC3-4BA4-9C6A-11CC1F89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33D9B-F2B4-47DC-B810-45CAC60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84CA-DC4E-4A44-9EDB-39976CE9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04CA-77A5-4E20-B007-487464F6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702-8D71-4230-9BFB-CBC4E901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6F9A-957A-46CD-AD83-86C75E1C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A223-8E3B-48FC-A928-573D3B51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3209-4D15-41C6-A696-AB74898E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32CE-23F8-44F8-A031-744D92FB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CEA0-E914-48C9-8371-BDAAFF03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F218-5CBC-457C-B123-B9BF572C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1EEC-F368-4934-8787-8B6320F7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BDCE-D24A-4101-B327-0193CC43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14442-2A1D-422C-8F95-A296224A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575A-52A5-4AB5-8555-F84C12EE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738-CE0C-46FD-856B-E96DE3C9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D2F9C-ADB8-43C6-9A9E-37AF14BB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E735-23F4-4A2C-9368-3C249132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15E29-861F-4864-8545-FBB83833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2E12-51A1-406C-93F8-8836612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7589-DCF6-4AA4-8116-EAA664C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B7BC-021D-45D4-9659-ED4BB4C8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F2E6-9773-4815-822C-350B5ACC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B9FE-A262-4AF1-B3B3-B09A8341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7598-D61C-46DA-A7B6-D8C9085B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D939D-1F36-4A53-A301-DC15E7F1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8AA-5241-4F0F-9298-7A214105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43877-42DD-4C79-A821-BCC7C60D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F1EC-CC5B-4C71-9014-89F223D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C17C0-B6EB-4FC4-82A2-E5BF8ACC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0670D-0DDA-4BA9-AFCE-FFF6EA7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8269A-5166-4481-825B-D5D3490D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33DB-2F0F-48A9-BC00-133149F2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854B-F6B0-4492-BC08-96CDBA2F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4E415-079F-4EE6-BB83-E122E69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6E67A-794D-49C1-8365-2C54EEDD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F7588-2658-4C5F-A745-2841AEC1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1A5-83EA-422D-9363-F104C43D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7C968-194E-46A8-901F-72B00BD7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7FF62-C621-4555-A3AF-2C7D40CC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B3275-114F-438D-91BC-D21E8E56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546FF-4BB8-435D-8008-5AA498E7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B618E-C642-463A-8499-302F54D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E328-C601-48C7-B53E-3BB2C0A3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F4CF1-FE94-44EB-91B9-0A4F897D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B7587-1862-453A-BE28-052C699E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BA32A-2857-42B0-ADA8-826C8A4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3756E-AB8C-4808-9687-49C5EFDC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721-3981-44D0-A42F-66372520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D9B6-A5E6-4997-8A4B-4284825A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D086A-4812-4A64-A5C6-429E566A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A50F4-E6F9-40A7-9EA5-71B396E6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C66CB-706C-4446-A244-3E22822F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1A556-7B27-4B06-97AC-B385094B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7B552-9B07-40B6-B76E-D606280F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5DA0-FA57-4AD9-AB58-F5DEAFBB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F09B-156D-4069-B00C-74DF5046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410F5-961B-41DF-B56C-2A6B359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55B7A-F7EF-4EDF-A8FE-1BF6463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1E3-59E3-4BEB-865B-C80C617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F9B6C-E48B-4780-B073-05F1ED4A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C60A-D2BA-4BD2-9CF5-69727DB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064D5-8FD2-4E4C-B194-93EE0C1F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8C421-C4BF-4DE6-9857-9EA151ED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3A20-49B1-43F6-A662-3298D7CF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D8439-EC99-46C3-A0D9-CC351060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315FD-9AB3-4958-AEA2-6DBA3A56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1226A-5F52-45D1-971B-38CFAC7B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B0FF8-37AA-4EAC-9624-2D3CE916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FBF31-B394-418D-91CC-5560D61F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FD1-EFA1-4464-A6F1-393AC3D7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5391-CF43-4C3D-9DFE-F8D471AD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D0068-2BC7-4825-B0F8-F52F1FF4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F73D4-D440-4F96-9DDA-AFEFEDC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CFFDE-2D80-4443-8237-698A125D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37F53-2C59-4770-AF93-B7E1C81D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D954F-409F-410B-BD61-596E0C75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55384-551A-45AB-81CA-F1F09BB4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F1B68-6409-47D0-884D-C9C57B5E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32236-84D9-4B25-AF10-08065F95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8E88C-55F6-4E66-9475-15848052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05F1-5E98-484D-B987-BEB400952F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72E2-B3FF-4525-ACF7-523959BA08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933D-B472-4399-B1CD-F7ACBCF69B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B16E-3BFB-41CD-BA72-CCC0AAC71C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7179-2649-4796-B1E6-524791BE05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64F3-EB7E-4596-8F2B-695E25FE18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0A41-1281-4ABC-B533-FACB842C7B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65A6-C143-477A-B6B7-4CC5CA3200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C277-2B0D-418B-A6D1-8DB9F9D808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79A-3ACA-4C34-8424-A9014172AD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D9A3-3A71-4815-B4C4-59114E5A7F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DF60-089D-4495-9DCD-BC3D13261D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6 Anjeli raz z výšin n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njeli raz z výšin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 tú niesť sa náhli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udský údel sám na s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al Syn Boží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ľuďom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om z neba žiaria strá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evom kraj sa napln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Pán Boh sľuby da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mu ľudu vypln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ľuďom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viedla hviezda jas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ch, čo Písmo skúm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lnila sa nádej spás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k jasliam skláňa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ľuďom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meon i Anna žasn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lnil sa im žitia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a Boha za zvesť krásnu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rodil s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ľuďom na zem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36:40Z</dcterms:modified>
  <cp:revision>33</cp:revision>
  <dc:subject/>
  <dc:title>Je veľký náš Pán, on slávy je Kráľ Nech do všetkých strán  spev vrúcnych znie chvál.</dc:title>
</cp:coreProperties>
</file>